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60B8-2AC8-4C9F-9851-DE83B08A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47DE-803A-428B-B5A2-12391EC1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3B3E-E342-45AD-9E62-F55175FB0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074D-8CA9-42A4-A6F5-28FEE8AF1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3FF1-4B98-4266-AAD4-32788658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8D1F-C288-4BF9-8A59-E0295023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11A1-DA92-4991-8625-6CE8A812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9BEE-B0E0-4252-8AE3-88B0131F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B29D-F68F-4661-BF5C-83D64591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EE47-1D7B-4EB0-93CC-011D3331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6AE8-8F4F-4F50-B2C1-17BACE2C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9253-DB6F-4E1E-B722-19D04BAD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D3A7-67F5-456D-B85D-13E391A44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EUR_location_NOR.PNG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oogle.com/imgres?imgurl=http://www.33ff.com/flags/XL_flags/Norway_flag.gif&amp;imgrefurl=http://www.33ff.com/flags/worldflags/Norway_flag.html&amp;h=240&amp;w=360&amp;sz=4&amp;tbnid=iDOXGJcEh6sOhM::&amp;tbnh=81&amp;tbnw=121&amp;prev=/images%3Fq%3Dnorway%2Bflag&amp;usg=__cCZOndZpg2tkdzn32XUDky59CXU=&amp;sa=X&amp;oi=image_result&amp;resnum=3&amp;ct=image&amp;cd=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newsimg.bbc.co.uk/media/images/39235000/jpg/_39235402_krone_203.jpg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gallery.photo.net/photo/4051811-lg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m/imgres?imgurl=http://upload.wikimedia.org/wikipedia/commons/thumb/e/ed/Valdresflya-1994-lake.jpg/300px-Valdresflya-1994-lake.jpg&amp;imgrefurl=http://en.wikipedia.org/wiki/Mountain_ranges_of_Norway&amp;usg=__CqEpbsahpS3T_W1hQFY91nJ_LQk=&amp;h=199&amp;w=300&amp;sz=16&amp;hl=en&amp;start=12&amp;um=1&amp;tbnid=DvjwnkTRiO8zWM:&amp;tbnh=77&amp;tbnw=116&amp;prev=/images%3Fq%3Dmountain%2Branges%2Bof%2Bnorway%26um%3D1%26hl%3Den%26safe%3Dactive%26rlz%3D1T4IBMA_enUS312US312%26sa%3DN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ages.google.com/imgres?imgurl=http://www.aqua-service.com/upload/images/jotunheimen.jpg&amp;imgrefurl=http://www.aqua-service.com/text.cfm%3Fpath%3D25%26id%3D48&amp;usg=__sIIFTjfHD1U0dqS9xFDDxCUYpEA=&amp;h=600&amp;w=900&amp;sz=120&amp;hl=en&amp;start=14&amp;um=1&amp;tbnid=kSu0Shs32ePmtM:&amp;tbnh=97&amp;tbnw=146&amp;prev=/images%3Fq%3Dthe%2Bjotunheimens%26um%3D1%26hl%3Den%26safe%3Dactive%26rlz%3D1T4IBMA_enUS312US312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en.wikipedia.org/wiki/File:Satellite_image_of_Norway_in_February_2003.jpg" TargetMode="External"/><Relationship Id="rId7" Type="http://schemas.openxmlformats.org/officeDocument/2006/relationships/image" Target="../media/image11.jpeg"/><Relationship Id="rId8" Type="http://schemas.openxmlformats.org/officeDocument/2006/relationships/hyperlink" Target="http://en.wikipedia.org/wiki/File:PanoHardangerfjorden1.jpg" TargetMode="External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Composition of Nor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5790960"/>
            <a:ext cx="2590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uthors: Nathan Fox and Michael Th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500080" y="5791320"/>
            <a:ext cx="300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ixth Grade Ge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Period, Randolph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Location of Norwa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5562720" y="1066680"/>
            <a:ext cx="510552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5.65217E-006 C 0.20504 -0.14477 0.41007 -0.28931 0.54202 -0.28191 C 0.67396 -0.27451 0.74688 -0.01341 0.79132 0.04441 E">
                                      <p:cBhvr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960" y="14479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rway: Enchantment of the Worl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.12, 20 24, 53, 54, 104-109, 114-1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rway in Pictu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.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books.google.com/books?id=1GlgQGDa4cgC&amp;pg=PA51&amp;lpg=PA51&amp;dq=mountain+ranges+of+Norway&amp;source=bl&amp;ots=bns7vqIXEh&amp;sig=4jAgfRctH2EeMPrNlXYpAKICjMw&amp;hl=en&amp;ei=O1KQSdW0E9-Btwfbi9mYCw&amp;sa=X&amp;oi=book_result&amp;resnum=9&amp;ct=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http://en.wikipedia.org/wiki/List_of_Norwegian_fj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Information of Nor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: Norweg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cy: Norwegian K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: 4,805,4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ensions: 148,746 sq. miles (7% w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: Oslo (Largest City as we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http://www.33ff.com/flags/worldflags/Norway_flag.htm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5120" y="2743200"/>
            <a:ext cx="990360" cy="663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19920" y="1905120"/>
            <a:ext cx="1447560" cy="1089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781680" y="5105520"/>
            <a:ext cx="1981440" cy="15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Geography of Nor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way is western country of Scandina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known for its fj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ed almost completely in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n for its thousands of is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st Island:Hinno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53040" y="1219320"/>
            <a:ext cx="450432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Geography and Islands of Nor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1320" y="4572000"/>
            <a:ext cx="300996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ysical Geograp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84760" y="1103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13360" y="914400"/>
            <a:ext cx="286920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ains and Water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038480"/>
            <a:ext cx="8534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144792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Mountain Ranges: The Jotunheimens and the Trollheimens; Glittertind is the highest mountain in Norway (8110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00800" y="2057400"/>
            <a:ext cx="2743200" cy="1819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657600" y="2133720"/>
            <a:ext cx="2590920" cy="1719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447920" y="2133720"/>
            <a:ext cx="1576440" cy="1780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3520" y="4267080"/>
            <a:ext cx="4876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jord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oves cut by glaciers that filled with melting water and flowed to the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04920" y="5292720"/>
            <a:ext cx="4952880" cy="1158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19920" y="41148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est Fjord in Norway: Sognefjord (204 k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6172200" y="4876920"/>
            <a:ext cx="249552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: Viking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kings originated from Norway, Denmark, and Sweden, they were good sailors a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empire was about twice the size of Current Norway before it was defeated by Denmark in the 1400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vikings.jpg"/>
          <p:cNvPicPr/>
          <p:nvPr/>
        </p:nvPicPr>
        <p:blipFill>
          <a:blip r:embed="rId2"/>
          <a:stretch/>
        </p:blipFill>
        <p:spPr>
          <a:xfrm>
            <a:off x="6477120" y="441972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BattleNorway.jpg"/>
          <p:cNvPicPr/>
          <p:nvPr/>
        </p:nvPicPr>
        <p:blipFill>
          <a:blip r:embed="rId3"/>
          <a:stretch/>
        </p:blipFill>
        <p:spPr>
          <a:xfrm>
            <a:off x="4952880" y="4191120"/>
            <a:ext cx="13431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: Danish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nish Rule started in the mid 1400s and ended in Napoleon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mark sided with Napoleon, forcing Norway to do so. Norway was handed over to Sweden in the Treaty of Kiel ending 400 years of Danish R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peace1.jpg"/>
          <p:cNvPicPr/>
          <p:nvPr/>
        </p:nvPicPr>
        <p:blipFill>
          <a:blip r:embed="rId2"/>
          <a:stretch/>
        </p:blipFill>
        <p:spPr>
          <a:xfrm>
            <a:off x="7162920" y="4648320"/>
            <a:ext cx="1028520" cy="1523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napoleon.jpg"/>
          <p:cNvPicPr/>
          <p:nvPr/>
        </p:nvPicPr>
        <p:blipFill>
          <a:blip r:embed="rId3"/>
          <a:stretch/>
        </p:blipFill>
        <p:spPr>
          <a:xfrm>
            <a:off x="762120" y="4648320"/>
            <a:ext cx="10857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e: Folktales and Lit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Norwegian stories had trolls in them, as well as including things about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folktales in Nor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ture in Norway is wonderful. Many Norwegian authors have won Nobel literature prizes and produced good pl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e: Art and Musi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 music in Norway is folk music, sometimes played on crude ho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e music is class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 is very ancient and originates from stone carvings in Norway in ancient tim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famous artist in Norway is Edvard Mu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Jostedal glacier is the largest in Nor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lama river is the longest in Nor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bout 1650 miles of coast (not including fjords and bay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300px-Lakelandscape800.jpg"/>
          <p:cNvPicPr/>
          <p:nvPr/>
        </p:nvPicPr>
        <p:blipFill>
          <a:blip r:embed="rId2"/>
          <a:stretch/>
        </p:blipFill>
        <p:spPr>
          <a:xfrm>
            <a:off x="990720" y="4952880"/>
            <a:ext cx="1523880" cy="1105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jostedal-glacier.jpg"/>
          <p:cNvPicPr/>
          <p:nvPr/>
        </p:nvPicPr>
        <p:blipFill>
          <a:blip r:embed="rId3"/>
          <a:stretch/>
        </p:blipFill>
        <p:spPr>
          <a:xfrm>
            <a:off x="3124080" y="4952880"/>
            <a:ext cx="15242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16:10:13Z</dcterms:created>
  <dc:creator>nathanfox</dc:creator>
  <dc:description/>
  <dc:language>en-US</dc:language>
  <cp:lastModifiedBy>John</cp:lastModifiedBy>
  <dcterms:modified xsi:type="dcterms:W3CDTF">2009-02-12T01:18:28Z</dcterms:modified>
  <cp:revision>7</cp:revision>
  <dc:subject/>
  <dc:title>The Composition of Norway</dc:title>
</cp:coreProperties>
</file>